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EB95-627C-4DDC-8A9E-F3DE88E1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1D3-B363-4361-9714-B0A0FF61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1A9-A5B6-42C5-BEE4-3BC6D584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4207-125F-43AE-89D1-579FF4C7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853F-E852-4577-8AAC-9FD66E4F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F107-08B5-4584-B850-56536CEF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29E5-B3B8-4269-A974-40710F64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EABD-F9BD-47F0-8168-EF043CA6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68BB-4EAE-49C5-B636-A7737F45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4F04-1A86-4D65-A5A3-0326A69A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BC8A-0B42-4DCB-A0CB-3B0DEF73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22A-2CFD-4AD1-9010-B0E1AE20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8834-8A67-4504-8332-F2F81396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5C9A-525B-413D-A89F-2C068F1F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82D0-0C41-497A-BDEA-A473B8CD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4040-1F3B-4822-B991-ACD2A81F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EC8B-5A22-4AC3-8BB4-E724751B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ACF6D-9FBD-444A-AC14-0B7F8EF1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82C17-F3EA-400E-8989-6CD444F3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0E9CA-19CC-4DB6-8F3D-E6740171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6CEA7-DCE1-4D10-8592-C5B6D4FA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C80C8-0023-4E26-9978-71FE9A94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9325-F24D-4EEF-92BF-08E02FCD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BB1C6-81FE-494B-A6EE-DF8EC317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C2D81-1D81-4C4A-9E26-D4CE2B66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CC496-5FEA-40EB-B3E6-E6A5E942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A3FCE-60FC-4FD3-B978-BBC7A28C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9A592-8639-4C05-B030-CC2F53D8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19F54-05B2-45DD-B3F3-0832D4FD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6ACD1-514D-4D22-9526-E0EAC48E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C2AFA-133B-4F04-A04D-29A171D0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206A9-EFB9-429C-B1E6-BFA18B6D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0AAF0-F141-44C5-9C43-A1A66071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ACA-0C12-424C-9DBA-BAE81AB9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A1477-83DE-4E5F-B692-FCD60228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5B80B-E278-4196-8113-90C4BD41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2C896-5E50-4AB3-813A-A64A5B6A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00446-CD48-4BCA-82B3-928BAC6D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72491-7286-43CF-8A5A-B3ADD762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E2870-C3A4-49AF-9914-2EFA72C8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2165F-42F9-42A8-92B0-989C8AB3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D68A0-086D-4A6E-9678-B4730086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B22B7-19B3-48E2-8EDC-F0F8783E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0F6BB-0E01-4F53-B34E-72B8A214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076-9D67-4E4A-884E-837D7363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778C0-38D0-448F-B793-9ABD7DDC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73FB2-3BCF-4E93-ACD1-A518A44E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BA602-8832-48A1-84C4-8B3F2F0E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3A306-65F0-4325-9922-3E13D4BD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BF7C4-5ABC-4A4A-9BD4-F0711534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E6080-C889-4ACA-B6E9-A8445CD6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0288C-13BD-4417-B33D-0C36D472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14CCC-B207-417E-84FA-ACE99884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61D6A-58B1-4D7E-98F9-64DB9B63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062A2-4C2C-4CE3-85E5-14ED4113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E17E-46BD-44E3-B1B8-9580C502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DA1D8-F68B-4D5D-B632-AE73CD29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074FE-A827-4B18-B665-08E0081F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35938-DE86-4097-9740-824D5406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9B73F-FEDE-4E77-9EF8-0EFF7BB4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20EC2-FE49-4151-8856-E9EE2741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EF972-25ED-4DD9-A14A-38849072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2FDDE-ABC6-4233-9ADC-1EF26EE4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1207D-51AE-474F-AA65-5152F389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ABDCE-F3AC-4249-A27A-C55CE589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F9A8B-E621-4BEB-BE15-E5F2A593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6195-D582-4D5E-8A02-08F4B2F7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34E35-37A1-4759-9021-7C990754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1F3AB-40AB-4A85-800B-DA75BC41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D468E-0732-427A-BD7A-B5BF1580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8A6F4-2E9A-464C-AE32-7ABCB27B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BBD24-F593-41A2-AF94-1CE4B8CE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9D5D2-5551-4E25-A572-4D879D84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6B57D-F54D-403C-91AD-64706C9A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A15CB-B4F9-4979-B14A-9BBBC9F8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C95D1-1C6B-4384-B2E3-777CF1B8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E0AB0-B3B3-4328-883D-30360B94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A5F-63EA-4F7B-8C2E-0BEE8781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030D3-2D58-496B-B09C-C4BAAD07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DA24D-A897-4C95-99CC-DCFC44CF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06FB5-FF6B-4A6C-B045-D4385735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EF2F0-3E82-4399-900F-6022B3CF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FE48E-5C04-4D51-BFAA-2B6BF4D9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7C96D-8739-4F10-B384-C2DF156F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6A833-AA2A-4D7D-9436-9D397EE6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F71DB-95B5-4C37-B6A6-393DC97B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38C55-4FB0-4425-8258-F7A1CF11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DF6AF-4FCF-486D-A2C5-079B6D1E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30B4-E7FF-49D6-ABFD-B33D378D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9F5B2-AE04-4234-A0E2-C9971579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8BDEC-9C6D-4A2E-A3E1-C3AF9345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B604A-FD2D-4F74-9D80-E711F9C6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914AF-6615-4523-801B-55D3F0EE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71B69-8364-4C38-97D9-09008DE8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ECB57-1524-471B-B316-44C6ED3F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ED2C2-EABC-499D-BED5-869A225C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FE4B-948F-4731-994C-84B217717BA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6B8B-DF5D-4061-BE84-78366CB979E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B1EB-590B-4FF6-A300-6F43F5CB0A7C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0605-A09E-49A4-A7CF-6D05F2186AF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F728-C08F-4680-8176-1821BD17FDB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18C2-118F-4B17-AACD-73C882F5F04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858A-2C14-4D92-B651-E6B48424B2DD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4428-9215-4452-B878-BB654353E19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2015 AP English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Literature and Composition Result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O’Gorman High Scho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sul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2057400"/>
          <a:ext cx="8229600" cy="1482840"/>
        </p:xfrm>
        <a:graphic>
          <a:graphicData uri="http://schemas.openxmlformats.org/drawingml/2006/table">
            <a:tbl>
              <a:tblPr/>
              <a:tblGrid>
                <a:gridCol w="2895480"/>
                <a:gridCol w="990720"/>
                <a:gridCol w="1143000"/>
                <a:gridCol w="1066680"/>
                <a:gridCol w="1067040"/>
                <a:gridCol w="106668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Overall Score Distrib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umber of O’Gorman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Students at O’Gor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Students Global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  <p:sp>
        <p:nvSpPr>
          <p:cNvPr id="356" name="TextBox 4"/>
          <p:cNvSpPr/>
          <p:nvPr/>
        </p:nvSpPr>
        <p:spPr>
          <a:xfrm>
            <a:off x="228600" y="4191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28.1% of O’Gorman students scored a 4 or 5 while only 25.8% scored a 4 or 5 glob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84.4% of O’Gorman students passed the test while 56.2% passed the test glob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ree Response 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457200" y="1752480"/>
          <a:ext cx="8229600" cy="2027520"/>
        </p:xfrm>
        <a:graphic>
          <a:graphicData uri="http://schemas.openxmlformats.org/drawingml/2006/table">
            <a:tbl>
              <a:tblPr/>
              <a:tblGrid>
                <a:gridCol w="4648320"/>
                <a:gridCol w="1143000"/>
                <a:gridCol w="1218960"/>
                <a:gridCol w="121932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Question/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ax Possible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lobal 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 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ultiple Choice 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57200" y="1981080"/>
          <a:ext cx="8229600" cy="2001960"/>
        </p:xfrm>
        <a:graphic>
          <a:graphicData uri="http://schemas.openxmlformats.org/drawingml/2006/table">
            <a:tbl>
              <a:tblPr/>
              <a:tblGrid>
                <a:gridCol w="4800600"/>
                <a:gridCol w="1143000"/>
                <a:gridCol w="1143000"/>
                <a:gridCol w="114300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ntent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umber of Ques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lobal 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 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-2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Century 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e-2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Century 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  <p:sp>
        <p:nvSpPr>
          <p:cNvPr id="361" name="TextBox 7"/>
          <p:cNvSpPr/>
          <p:nvPr/>
        </p:nvSpPr>
        <p:spPr>
          <a:xfrm>
            <a:off x="457200" y="44956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’Gorman students had higher means in each response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istorical Comparis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57200" y="1447920"/>
          <a:ext cx="8229600" cy="50911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str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tal in 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ean Score (Out of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% Score 3 or Hig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hon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4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4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21:29:07Z</dcterms:created>
  <dc:creator>Administrator</dc:creator>
  <dc:description/>
  <dc:language>en-US</dc:language>
  <cp:lastModifiedBy>Van Engen, Jason</cp:lastModifiedBy>
  <dcterms:modified xsi:type="dcterms:W3CDTF">2015-07-30T22:48:12Z</dcterms:modified>
  <cp:revision>25</cp:revision>
  <dc:subject/>
  <dc:title>2011 AP English  Literature and Composition Results</dc:title>
</cp:coreProperties>
</file>